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23A-BD6D-47CD-8703-B204B553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595-0A9E-4E3A-B2C8-ED2FFE7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82B-6652-4589-97B4-E9B026D9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54E-EE5A-4DFF-9E6B-C4FC38F9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8F2F-8716-4C61-80B6-93AF165F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0708-49B7-45C6-863C-1B69667A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580E-DA5F-40CA-85C5-27C75306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240-7045-46B7-B09E-D92DD88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5098-AF02-45A8-877B-9ECAEAA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7DC0-C1E7-449B-BDD2-2D883EE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0F5-133C-4CE2-85CA-AA14680E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1DF-EAA4-484E-8542-FBB60D24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F9EC-5BD5-4036-AC60-8EF81A7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56B-84DB-49EC-AF1A-B7E359BD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3808-FF03-449A-96E7-78F87CAC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61E-8458-425A-8082-D0782018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90F-95C0-4C2F-9A6E-FEF3E8EF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BE76-1905-46B5-A623-5BD834C7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B313-6325-4B2A-8DE8-0DE9299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D40D-08EB-4770-90BA-7B312FC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F93C-D7D9-4248-8325-7282E11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DBD0-B4C7-4FC1-A2AD-8EA88D77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C40-5028-49E3-85C6-5698AECB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A62D-41F8-4DC1-BD3E-C926C12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5596-FEAB-41CA-9090-0BE1774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3118-C92F-4F4A-A746-DDB52F2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AB84-8B9A-45FF-AB30-52BE025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DD06-56C0-4717-93F7-596C903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2276-88A5-4074-9E24-85506471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5E47-62F9-4E4A-9BAD-F71F7826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2910-D774-409B-99C8-664BCE22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6653-751F-4706-9C95-76D7C51D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CD0A-3860-48D0-A9B6-047A46B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282-386D-4620-91AA-E6573CE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ED60-8768-45FD-BE30-E8A6F8D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95B6-68E4-4365-B9D6-5B4AA41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30AD-0F4D-4871-8197-C311B3C3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998A-44AC-4BF3-A29B-85ADB9E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7491-975C-4B1D-B3DA-A678208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8B55-73BE-4763-A9B7-C0A988D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7B21-3AE7-4930-AEE7-401E6E2F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634C-0D1E-45A0-A803-4D3F74F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6EAC-1DE4-4093-A818-20C85929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6EDF-8734-4AEC-B91A-A2403C6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811-A9EA-4357-9CE8-8153F0AB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B266-F69A-4299-AAC0-DF9766A8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CEA0-8DE7-4129-90B5-BF88E5A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9B33-EEF6-4EAF-B8BE-9B78EE3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DFCE-2864-48B2-AD77-1C0FF9BF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CB13-FA7A-4E09-96FD-83294D1B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7C2C-B4DB-45B1-9006-BF8CE42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CC12-12D3-4CA4-91AB-BA94EC0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5A06-9EEB-46A1-82EA-FBFFDCB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E083-DB9B-4186-8917-CA9E7807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B34E-E192-4089-B2B4-16A6C69B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DE7-FB19-404F-A2CB-4D3DAEE1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2F71-42A6-4221-B10F-4199E8C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8824-61EC-411A-ADFA-816F1132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E4D1-D4E1-45A1-9089-95DDA9E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C650-8CBE-4EA1-B094-7AB90785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9BA13-46FE-4BBA-8F98-AAC2B5D2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B662-7405-4686-8EF8-FAA4FED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F890-A1B5-4661-8464-71B3FB9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265E-5218-4B6E-BA38-61FD251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C47C-18C3-4C99-A859-42844D5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8214-466C-463D-B9B5-038F1E6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29E-17FB-4D00-B046-295D106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FCBB-8B63-4EB3-8AB9-AA005F2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89CB-0220-49F5-85FC-BF493108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1D6A-1B9D-4E8F-80E3-4CB82F4D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310FA-FCA6-4AB0-853B-6A059EA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6EE1-834A-4A14-ABDF-72E338C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7089-46A8-4F10-BB2D-0DA98FA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C961-E2D5-40A7-A966-046636E7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C134-DA63-42ED-9B6D-4B762E79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2778E-758E-4CB0-9612-256AA00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0CCE-25D0-4538-A6EF-F2C7AD11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429-DA1A-4647-8D43-1144B59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C725-1DC6-4CF6-A374-E1E4EBD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7594-BC01-47B1-9DE5-D32C874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A12A-9E57-43DE-8E32-89A3779D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E85C-15A5-456E-9DD5-3107C6AF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05E6B-0EC0-472E-A1C5-F1B2F561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8DF-164D-4F9C-93EE-610F559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C2B6-C03F-4E05-B58A-664DEB6B3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8694-87AA-41C0-A978-3CE3F429E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2858-207B-4B9A-9CA6-4D7430D68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AE5-017A-44AF-AD8A-CC5029229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FAD-9629-4760-AB57-1A58F3784D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72D3-704F-4CD5-8793-16B40D452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600-E6EF-4900-BC9A-8FDB92A92C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80960" y="2567160"/>
            <a:ext cx="810252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9040"/>
            <a:ext cx="71294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Nance, Hyorim Park, Deepa Ra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9266400" cy="1244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ositive Distraction for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ur of the Hospital’s 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iew of other areas of the world (NYC, DC, grand canyon…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180560" cy="938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cienceroll.files.wordpress.com/2008/08/imperial-1-small.jpg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2291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ww.popsci.com/files/imagecache/article_image_large/files/articles/GoogleEarth-Manhattan.jpg"/>
          <p:cNvPicPr/>
          <p:nvPr/>
        </p:nvPicPr>
        <p:blipFill>
          <a:blip r:embed="rId4"/>
          <a:stretch/>
        </p:blipFill>
        <p:spPr>
          <a:xfrm>
            <a:off x="609480" y="4038480"/>
            <a:ext cx="3276720" cy="242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http://penfall.files.wordpress.com/2007/04/grand-canyon222.jpg"/>
          <p:cNvPicPr/>
          <p:nvPr/>
        </p:nvPicPr>
        <p:blipFill>
          <a:blip r:embed="rId5"/>
          <a:stretch/>
        </p:blipFill>
        <p:spPr>
          <a:xfrm>
            <a:off x="4114800" y="4038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re b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orsen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lack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to stress and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willing to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437600" cy="124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98" name="그룹 8"/>
          <p:cNvGrpSpPr/>
          <p:nvPr/>
        </p:nvGrpSpPr>
        <p:grpSpPr>
          <a:xfrm>
            <a:off x="685800" y="1523880"/>
            <a:ext cx="7620120" cy="4267440"/>
            <a:chOff x="685800" y="1523880"/>
            <a:chExt cx="7620120" cy="4267440"/>
          </a:xfrm>
        </p:grpSpPr>
        <p:sp>
          <p:nvSpPr>
            <p:cNvPr id="299" name="모서리가 둥근 직사각형 3"/>
            <p:cNvSpPr/>
            <p:nvPr/>
          </p:nvSpPr>
          <p:spPr>
            <a:xfrm>
              <a:off x="5715000" y="457200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ositive Distra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모서리가 둥근 직사각형 4"/>
            <p:cNvSpPr/>
            <p:nvPr/>
          </p:nvSpPr>
          <p:spPr>
            <a:xfrm>
              <a:off x="6858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Self Regist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모서리가 둥근 직사각형 5"/>
            <p:cNvSpPr/>
            <p:nvPr/>
          </p:nvSpPr>
          <p:spPr>
            <a:xfrm>
              <a:off x="685800" y="464832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roviding Inform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모서리가 둥근 직사각형 6"/>
            <p:cNvSpPr/>
            <p:nvPr/>
          </p:nvSpPr>
          <p:spPr>
            <a:xfrm>
              <a:off x="57150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Monitoring Vital 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38160" cy="1557360"/>
          </a:xfrm>
          <a:prstGeom prst="rect">
            <a:avLst/>
          </a:prstGeom>
          <a:ln w="0">
            <a:noFill/>
          </a:ln>
        </p:spPr>
      </p:pic>
      <p:cxnSp>
        <p:nvCxnSpPr>
          <p:cNvPr id="304" name="Shape 14"/>
          <p:cNvCxnSpPr>
            <a:endCxn id="302" idx="2"/>
          </p:cNvCxnSpPr>
          <p:nvPr/>
        </p:nvCxnSpPr>
        <p:spPr>
          <a:xfrm flipV="1">
            <a:off x="5486040" y="2666160"/>
            <a:ext cx="152460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5" name="Shape 16"/>
          <p:cNvCxnSpPr>
            <a:endCxn id="299" idx="0"/>
          </p:cNvCxnSpPr>
          <p:nvPr/>
        </p:nvCxnSpPr>
        <p:spPr>
          <a:xfrm>
            <a:off x="5486040" y="4038480"/>
            <a:ext cx="1524600" cy="53424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6" name="Shape 18"/>
          <p:cNvCxnSpPr>
            <a:endCxn id="300" idx="2"/>
          </p:cNvCxnSpPr>
          <p:nvPr/>
        </p:nvCxnSpPr>
        <p:spPr>
          <a:xfrm rot="10800000">
            <a:off x="1980360" y="2666160"/>
            <a:ext cx="167724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7" name="Shape 20"/>
          <p:cNvCxnSpPr>
            <a:endCxn id="301" idx="0"/>
          </p:cNvCxnSpPr>
          <p:nvPr/>
        </p:nvCxnSpPr>
        <p:spPr>
          <a:xfrm flipV="1" rot="10800000">
            <a:off x="1980360" y="4038120"/>
            <a:ext cx="1677240" cy="61056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receiving the ER Assistant the patient will be asked to enter that information in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formation will be sent to the reception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fully functionality will allow for integration with the hospitals 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제목 5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815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G_0777"/>
          <p:cNvPicPr/>
          <p:nvPr/>
        </p:nvPicPr>
        <p:blipFill>
          <a:blip r:embed="rId2"/>
          <a:stretch/>
        </p:blipFill>
        <p:spPr>
          <a:xfrm>
            <a:off x="60948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IMG_0782"/>
          <p:cNvPicPr/>
          <p:nvPr/>
        </p:nvPicPr>
        <p:blipFill>
          <a:blip r:embed="rId3"/>
          <a:stretch/>
        </p:blipFill>
        <p:spPr>
          <a:xfrm>
            <a:off x="4114800" y="16002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4191120" y="3962520"/>
            <a:ext cx="3124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047080" cy="1244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vital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istant will have an attachment that will take the patients vital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ill be loaded to a screen for the nurses to monitor while the patient is in the wait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구름 7"/>
          <p:cNvSpPr/>
          <p:nvPr/>
        </p:nvSpPr>
        <p:spPr>
          <a:xfrm>
            <a:off x="3048120" y="2971800"/>
            <a:ext cx="1523880" cy="1447920"/>
          </a:xfrm>
          <a:prstGeom prst="pie">
            <a:avLst/>
          </a:prstGeom>
          <a:solidFill>
            <a:srgbClr val="ffffff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4952880" y="2109960"/>
            <a:ext cx="3767400" cy="2995560"/>
          </a:xfrm>
          <a:prstGeom prst="rect">
            <a:avLst/>
          </a:prstGeom>
          <a:ln w="0">
            <a:noFill/>
          </a:ln>
        </p:spPr>
      </p:pic>
      <p:pic>
        <p:nvPicPr>
          <p:cNvPr id="319" name="제목 1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edmundsweightloss.com/images/generic_arm_band.bmp"/>
          <p:cNvPicPr/>
          <p:nvPr/>
        </p:nvPicPr>
        <p:blipFill>
          <a:blip r:embed="rId3"/>
          <a:stretch/>
        </p:blipFill>
        <p:spPr>
          <a:xfrm>
            <a:off x="609480" y="2133720"/>
            <a:ext cx="198144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4"/>
          <a:stretch/>
        </p:blipFill>
        <p:spPr>
          <a:xfrm rot="21202800">
            <a:off x="5613480" y="2530080"/>
            <a:ext cx="2514600" cy="210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3429000" y="3276720"/>
            <a:ext cx="685800" cy="815760"/>
          </a:xfrm>
          <a:prstGeom prst="rect">
            <a:avLst/>
          </a:prstGeom>
          <a:ln w="0">
            <a:noFill/>
          </a:ln>
        </p:spPr>
      </p:pic>
      <p:sp>
        <p:nvSpPr>
          <p:cNvPr id="323" name="직선 연결선 9"/>
          <p:cNvSpPr/>
          <p:nvPr/>
        </p:nvSpPr>
        <p:spPr>
          <a:xfrm flipV="1">
            <a:off x="4343400" y="3606480"/>
            <a:ext cx="609480" cy="50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직선 연결선 11"/>
          <p:cNvSpPr/>
          <p:nvPr/>
        </p:nvSpPr>
        <p:spPr>
          <a:xfrm flipV="1">
            <a:off x="2514600" y="3352680"/>
            <a:ext cx="762120" cy="457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120160" cy="1244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Information about the wait that may be incurred and the tria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registration the device will inform the patient about estimated wait time for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the triage process and the ED will also b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05:30Z</dcterms:created>
  <dc:creator>gradstudent</dc:creator>
  <dc:description/>
  <dc:language>en-US</dc:language>
  <cp:lastModifiedBy>박효림</cp:lastModifiedBy>
  <dcterms:modified xsi:type="dcterms:W3CDTF">2008-10-28T19:03:08Z</dcterms:modified>
  <cp:revision>9</cp:revision>
  <dc:subject/>
  <dc:title>Personal ER Assistant ()</dc:title>
</cp:coreProperties>
</file>